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002-C468-48C4-84EF-6B66AD2E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79E-F110-42AE-BFA0-0BF7BB57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BC5-7C0B-472F-AE36-28324756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32E-78F7-42B4-A49F-81AF3359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EAB4-941A-4354-A610-FE1AA467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1549-7529-4DC4-BD42-8EC4F917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65FA-BB2C-443C-817A-39A55D46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E53A-34BF-4C00-82BC-6397769F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08C-1A3F-446E-AA55-94FC5B6A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5863-47E2-4834-B935-BD429C59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4D93-071D-4F02-8A3E-9CACAEDD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47A-1F04-47F9-A474-760026F4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41B2-2A0F-4FC9-BB80-4F16E8B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A2AF-7709-4C3A-82C0-EBC956B1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3A37-6F7B-4B8C-B15A-1F6C956B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C768-CA63-4677-9BE3-4B25A41E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A3B8-6DE0-47DD-BC3C-B8E1089C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0C5-6616-4638-BB36-E2F8278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602-4933-4DD4-BE07-2DCCF703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064-D9D8-4E59-BD1E-91BDBCA9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73A-1D2D-4D9D-899B-095BF417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832-8403-4B44-9DA5-7EEEFA6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75B-1E0E-4CF9-A02C-0875ED86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414-68DE-4A25-8BD4-3EFD5BD7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F4D-9302-4241-9191-6C63C7DF2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0991-74C6-4636-AB3C-BD58C93B8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ncefalus.com/wp-content/uploads/2008/09/resources_money.jpg&amp;imgrefurl=http://encefalus.com/general/new-micro-economic-paradigm-integration-psychology/&amp;usg=__8lh-7xcaOnTxt8mabKP9DEhkFHY=&amp;h=420&amp;w=550&amp;sz=56&amp;hl=en&amp;start=4&amp;itbs=1&amp;tbnid=I0REo8PhM2uWbM:&amp;tbnh=102&amp;tbnw=133&amp;prev=/images%3Fq%3Dmoney%26hl%3Den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.treehugger.com/images/2007/10/24/students%2520at%2520comps.jpg&amp;imgrefurl=http://www.treehugger.com/files/2007/06/software_helps.php&amp;usg=__qVCMNPgWgthzw0d6KNYQxQyYd5o=&amp;h=299&amp;w=468&amp;sz=28&amp;hl=en&amp;start=55&amp;itbs=1&amp;tbnid=aaxjXKIxWPXxNM:&amp;tbnh=82&amp;tbnw=128&amp;prev=/images%3Fq%3Dstudents%2527%26start%3D40%26hl%3Den%26sa%3DN%26gbv%3D2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ath.hmc.edu/~tucker/math104/graphics/thinking-cap.gif&amp;imgrefurl=http://www.math.hmc.edu/~tucker/math104/resources.html&amp;usg=__LRJE8jEsslG8D2_N47k25wxAS8M=&amp;h=637&amp;w=550&amp;sz=39&amp;hl=en&amp;start=2&amp;itbs=1&amp;tbnid=WITDeUs3FxbG3M:&amp;tbnh=137&amp;tbnw=118&amp;prev=/images%3Fq%3Dthinking%26hl%3Den%26sa%3DG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3.bp.blogspot.com/_tlMNdw356S4/SZrZzGSyQnI/AAAAAAAAAAw/le3Ksx5tP2U/s320/self_assessment.gif&amp;imgrefurl=http://sakoviciuter.blogspot.com/2009/02/self-assessment-of-success-in-learning.html&amp;usg=__8_eHBIZk5Ot9EIt4RAGkLHPnULA=&amp;h=272&amp;w=282&amp;sz=4&amp;hl=en&amp;start=18&amp;itbs=1&amp;tbnid=1MnBf3f2MpRR1M:&amp;tbnh=110&amp;tbnw=114&amp;prev=/images%3Fq%3Dassessment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Our Money –</a:t>
            </a:r>
            <a:br>
              <a:rPr sz="4800"/>
            </a:b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Our Communit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bara Strong and Maria R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81680" y="19051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7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23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Gauging Student Needs Assessmen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4479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7162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cus on parts of the learning that students have prior misconceptions ab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n activities in which they will answer their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9783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876920"/>
            <a:ext cx="7010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adjust their communication skills within their collaborativ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goals for how to spend wisely and be respon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ome proficient at counting money and making 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quests for Feedbac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about different kinds of technology that will motivate my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ways to get my students to do more higher-order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some strategies for helping students do projects from other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0400" y="5181480"/>
            <a:ext cx="1197000" cy="15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90760" y="1528920"/>
            <a:ext cx="4362480" cy="38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8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lack"/>
              </a:rPr>
              <a:t>Unit Summ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will study economics and correlate learning money. The students will then role play producers, sellers and consumers, by relating it to a real life situation of running a store. They will earn money by doing homework, attending school, and following the PBIS behavior conduct code. The students will determine if they should spend their hard earned money on a need or a want. They will create a  presentation about their learning, create an advertisement, and share it with an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urriculum-Framing Ques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Essential Question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money wor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191120"/>
            <a:ext cx="261432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urriculum-Framing Ques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Unit Questio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good thing to spend money 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we get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3809880"/>
            <a:ext cx="169056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urriculum-Framing Ques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Content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value of co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different ways can you make a dollar using different sets of co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make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I represent various amount s of money using decimals notation and symbols for cents and doll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you know the difference between a need and a wa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difference between a good and a servi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roles of producers and consum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importance of saving and using money you ea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people depend on each other for trad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8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Vision for Un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creating this unit, I wan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out new methods to make economics relevant to my students’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ways to involve my students more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unit, I want my student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he importance of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echnology to communi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0"/>
            <a:ext cx="29257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ject Approach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my students work on this project, 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 the store to the re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 peers on web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product that shows what they’ve 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 their learning with a real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5105520"/>
            <a:ext cx="15192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3851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lack"/>
              </a:rPr>
              <a:t>21</a:t>
            </a:r>
            <a:r>
              <a:rPr b="0" lang="en-US" sz="4400" spc="-1" strike="noStrike" baseline="30000">
                <a:solidFill>
                  <a:srgbClr val="333300"/>
                </a:solidFill>
                <a:latin typeface="Arial Black"/>
              </a:rPr>
              <a:t>st</a:t>
            </a:r>
            <a:r>
              <a:rPr b="0" lang="en-US" sz="4400" spc="-1" strike="noStrike">
                <a:solidFill>
                  <a:srgbClr val="333300"/>
                </a:solidFill>
                <a:latin typeface="Arial Black"/>
              </a:rPr>
              <a:t> Century Lear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develop higher-order and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 skills in this unit as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33676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Essential and Unit Questions to guide their analysis of economics and how to apply that knowledge to daily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e their ideas to an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on their reading, writing, research, and thinking strategies, and modify and adapt them a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roject assessments to self-assess their work and give feedback to their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5181480"/>
            <a:ext cx="1388880" cy="16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02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 Black"/>
              </a:rPr>
              <a:t>Gauging Student Needs Assessmen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828800"/>
            <a:ext cx="6933960" cy="45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CFQ’s to lear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dents’ concept of mon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knowledge of money and economics on Wordl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Senteo for comparing prior knowledge of money to completion of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ess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perience writing for a real audience and use technology to enhance their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ain self-assessment and self-direction skills that they will use and build on all year 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72000"/>
            <a:ext cx="1755720" cy="169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mrein</cp:lastModifiedBy>
  <dcterms:modified xsi:type="dcterms:W3CDTF">2010-08-24T19:08:33Z</dcterms:modified>
  <cp:revision>61</cp:revision>
  <dc:subject/>
  <dc:title>What can Romeo and Juliet Teach Us About Ourselves?</dc:title>
</cp:coreProperties>
</file>